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B41-F0B8-416A-AD7D-EAEC711D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E9B-7262-4E57-A771-0E4E9A57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438-BDDF-4106-BCAC-49B253CC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7E3-43A5-410C-B912-DF090F6F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EF6-5E91-40C1-BCC1-12C4A380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513-D7F7-40C2-8551-054CAA40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38A-F375-4FDA-A915-36C3F1D8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F42-BD06-40C4-B192-9654FE8C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344-DA22-4569-B70A-48203A53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9D4-1E47-4782-86C2-AF62164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238-8CA0-4B8D-8FFE-E2A8CCE6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226-1170-41BE-9F0D-145873B6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C97C6-BBD4-4BFB-87D4-757170486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ocer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weets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ke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irdresser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verend%20John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xer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utcher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njurer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octor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irefighters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muel Pepy's Diary from Pudding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sten and complete the informations on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9280"/>
            <a:ext cx="918072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360360"/>
            <a:ext cx="899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60360"/>
            <a:ext cx="882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9640" y="360360"/>
            <a:ext cx="792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5392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9280"/>
            <a:ext cx="684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2:11:22Z</dcterms:created>
  <dc:creator>dominique  camier</dc:creator>
  <dc:description/>
  <dc:language>en-US</dc:language>
  <cp:lastModifiedBy>dominique  camier</cp:lastModifiedBy>
  <dcterms:modified xsi:type="dcterms:W3CDTF">2014-03-02T12:21:49Z</dcterms:modified>
  <cp:revision>10</cp:revision>
  <dc:subject/>
  <dc:title/>
</cp:coreProperties>
</file>